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67D8-62B0-4DAF-83FB-62170470E7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я. Многообразие живых организм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672E-1FF2-4E9F-AB70-70F3088723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гменты и пласт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7B50-F005-4FC9-90AF-6B7B8AD665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Аукс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адают высокой физиологической активностью («Гетероауксин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рост клетки в фазах раст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т рост клеток кам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авливают взаимодействие отдель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коррелятив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 влияет на скорость созревания пл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Гибберелли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товые вещества растений («Завяз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B8D3-78E1-4218-869F-29C5000DCE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итогормоны регулируют многие процессы жизнедеятельности раст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B3DB-DF8F-455E-BA9B-D7DB65CB8E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Целлюлоза – основ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5F63-0248-43C8-BE9F-7F254D7905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 органических веществ: аминокислот, белков, углеводов, дубильных веще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ённые неорганически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ург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пряжение клеточной ст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F73F-0D3C-4029-8362-0975D142E9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78A4-443F-494E-80AB-05903CAFB5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знаки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аличие в клетках пиг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деление растительных горм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летки окружены клеточной стенкой, образованной целлюл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бязательный продукт обмена – 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B438-E2BD-42C6-B43D-4458574A3D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3C1B-20E4-4F36-ABF2-5A593131BA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E705-084B-4E04-BB2D-CB01772451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6B71-21E6-47B6-82BD-54DED1584B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мире насчитывается более 350 тыс. видов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оставляют около 95% от всей </a:t>
            </a: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биома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Фл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овокупность всех растений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0434-30F3-4A0B-AE14-6D657D069A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з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до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с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х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лаун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воще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поротник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крыт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4CA8-90D4-408D-8686-277942FAE2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9547-929C-4C80-BB38-08C94FED48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астения –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авт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образуют органическую биомассу (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3E1E-3334-4C7A-81A6-E991639298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г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CA7C-CF63-4655-AC16-97F01D451C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B17-8009-4553-9E76-D54C2374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545-A8E4-4083-96A0-D6C93337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D08-EBCA-4CFA-A28E-8BDCF24D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167-A0F5-4E9E-83DA-FBB4605E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B0DA-AEE1-48F8-B578-D7B6F026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18E5-6217-487C-9C5D-DFF76204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AE66-C8B1-47B5-82B6-30A8DF83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9955-E32E-4DB0-B8FF-5309DD9B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CD8E-CDAF-4378-86FE-74A7ED22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20C2-CFAF-4A70-805F-5A666216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8B6C-5C1C-4AC3-BB34-99414D6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38A-2707-4B80-951D-9BD66E7A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1298-9263-4FFE-8ECE-D2EE2FE3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C97A-855C-451D-AA42-DFADBD5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AF2C-2824-4AA9-9EA7-1F0EBF8C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5975-16D2-42C6-AF5E-9F511A8D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96FD-A40E-4CFA-B7B6-3F214414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E8B-1FAE-4D6B-B7DF-94A75F47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CD0-92FA-4924-9714-8C06C1ED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D17-6161-4DCE-AF95-1D0C8273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FAC-74DE-4E5F-8915-7C6CBDA7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89D-8A30-4F67-9E94-ECFC0E1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C87-4943-4567-95C7-69442E8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904-7039-47BA-8E23-E92F8AEF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6DDB-782C-4929-B06A-FFF853299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7BDB-47EE-4EED-8F37-6B22E658C5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2468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Биология. Многообразие живых организмов.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7 класс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арство Раст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90920" y="4648320"/>
            <a:ext cx="4495680" cy="1600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0-2011 учеб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ак Ольг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игменты и пластид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3.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562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5000"/>
                </a:solidFill>
                <a:latin typeface="Arial"/>
              </a:rPr>
              <a:t>Аукси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ладают высокой физиологической активностью («Гетероауксин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ют на рост клетки в фазах растя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уют рост клеток камб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авливают взаимодействие отдельных орга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ируют коррелятивны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лен влияет на скорость созревания пл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Гибберелли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стовые вещества растений («Завязь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3114720" cy="20764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Фитогормоны регулируют многие процессы жизнедеятельности расте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60560" cy="358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4.Целлюлоза – основа клеточной стен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36960" cy="44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4800600" y="5257800"/>
            <a:ext cx="4114800" cy="990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люлоза – это основа древес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5.Клеточный со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 органических веществ: аминокислот, белков, углеводов, дубильных веществ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ённые неорганически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Тург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пряжение клеточной ст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637000" cy="383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48320" y="6248520"/>
            <a:ext cx="4038480" cy="3808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ьице закрытое и открыт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6.Неограниченный рос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4419720" y="6019920"/>
            <a:ext cx="4419360" cy="5331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гантские секво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657600" cy="2911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57200" y="5181480"/>
            <a:ext cx="3429000" cy="6858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 Р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сновные признаки растений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аличие в клетках пиг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Выделение растительных горм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Клетки окружены клеточной стенкой, образованной целлюлоз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Обязательный продукт обмена – клеточный 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еограниченный р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21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97964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33520" y="401796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85800" y="3352680"/>
            <a:ext cx="236232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6324480"/>
            <a:ext cx="228600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п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800600" y="2666880"/>
            <a:ext cx="16765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кролик"/>
          <p:cNvPicPr/>
          <p:nvPr/>
        </p:nvPicPr>
        <p:blipFill>
          <a:blip r:embed="rId4"/>
          <a:stretch/>
        </p:blipFill>
        <p:spPr>
          <a:xfrm>
            <a:off x="4191120" y="3962520"/>
            <a:ext cx="304776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7315200" y="5029200"/>
            <a:ext cx="1600200" cy="5335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395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4419720"/>
            <a:ext cx="198108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53080" y="4419720"/>
            <a:ext cx="20574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6095880"/>
            <a:ext cx="25909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щая характеристика растен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мире насчитывается более 350 тыс. вид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 составляют около 95% от всей </a:t>
            </a: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биомас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Фло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вокупность всех растений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247920" cy="3217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Низ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до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Выс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х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лаун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още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апоротник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ол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крыт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биом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2438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1. фотосинте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стения – 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автотро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образуют органическую биомассу (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вишня№2"/>
          <p:cNvPicPr/>
          <p:nvPr/>
        </p:nvPicPr>
        <p:blipFill>
          <a:blip r:embed="rId1"/>
          <a:stretch/>
        </p:blipFill>
        <p:spPr>
          <a:xfrm>
            <a:off x="4952880" y="18288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952880" y="5105520"/>
            <a:ext cx="38862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ды виш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743200" cy="206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380880" y="6248520"/>
            <a:ext cx="4191120" cy="3045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дро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. пигмент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152280" y="4724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80880" y="4724280"/>
            <a:ext cx="3581640" cy="1524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пигмент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5029200"/>
            <a:ext cx="4495680" cy="13716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нжевые, желтые, 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о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помидор"/>
          <p:cNvPicPr/>
          <p:nvPr/>
        </p:nvPicPr>
        <p:blipFill>
          <a:blip r:embed="rId2"/>
          <a:stretch/>
        </p:blipFill>
        <p:spPr>
          <a:xfrm>
            <a:off x="6553080" y="11430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перец"/>
          <p:cNvPicPr/>
          <p:nvPr/>
        </p:nvPicPr>
        <p:blipFill>
          <a:blip r:embed="rId3"/>
          <a:stretch/>
        </p:blipFill>
        <p:spPr>
          <a:xfrm>
            <a:off x="4648320" y="2971800"/>
            <a:ext cx="251460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4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